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7.png" ContentType="image/png"/>
  <Override PartName="/ppt/media/image12.png" ContentType="image/pn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39.jpeg" ContentType="image/jpeg"/>
  <Override PartName="/ppt/media/image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5.png" ContentType="image/pn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0964-4146-45D0-84E5-74D1AA80C64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D797-57FC-4209-8B92-1F7E398FF82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0D2-7E66-4B67-8CFF-FBB69CA4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A4A-4D49-4F32-BCDC-344E14FD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E8B-5426-44AE-A15B-805B4E25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516-780B-4A38-B500-60B4D7CC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295-964F-40F6-ADFF-41E27BE0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201-1F56-4072-B411-519F2FB5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758-FCAF-42E2-B612-CEDE4F76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C5E-A594-4A23-9162-847BA0A2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F86-55F4-422C-98AA-C8C5314A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CE6-BBC8-4399-956F-7FF6058C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395-02CE-4245-9C72-B7B38B18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DED-0D22-4DAE-855C-1FD8A9D5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85F8-D6DC-4687-A892-6D6B966663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2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hyperlink" Target="http://hof.povray.org/" TargetMode="Externa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ka 3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1488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Podsumowanie omówionych zagadnie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ole tekstowe 4"/>
          <p:cNvSpPr/>
          <p:nvPr/>
        </p:nvSpPr>
        <p:spPr>
          <a:xfrm>
            <a:off x="446400" y="357120"/>
            <a:ext cx="47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ład z grafiki komputerowej II (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cek Matulewski (e-mail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jacek@fizyka.umk.pl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://www.fizyka.umk.pl/~jacek/dydaktyka/3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4"/>
          <p:cNvSpPr/>
          <p:nvPr/>
        </p:nvSpPr>
        <p:spPr>
          <a:xfrm>
            <a:off x="6216480" y="62866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sja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5 listopada 2007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200" y="142884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owe RGB + A (atrybut figury), alternatywa HS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50 nm, </a:t>
            </a:r>
            <a:r>
              <a:rPr b="0" lang="pl-PL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530 nm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50 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14" descr="widmo_odwrocone.bmp"/>
          <p:cNvPicPr/>
          <p:nvPr/>
        </p:nvPicPr>
        <p:blipFill>
          <a:blip r:embed="rId1"/>
          <a:stretch/>
        </p:blipFill>
        <p:spPr>
          <a:xfrm>
            <a:off x="714240" y="2500200"/>
            <a:ext cx="5695920" cy="971640"/>
          </a:xfrm>
          <a:prstGeom prst="rect">
            <a:avLst/>
          </a:prstGeom>
          <a:ln w="0">
            <a:noFill/>
          </a:ln>
        </p:spPr>
      </p:pic>
      <p:pic>
        <p:nvPicPr>
          <p:cNvPr id="115" name="Obraz 15" descr="06 Cieniowanie.bmp"/>
          <p:cNvPicPr/>
          <p:nvPr/>
        </p:nvPicPr>
        <p:blipFill>
          <a:blip r:embed="rId2"/>
          <a:stretch/>
        </p:blipFill>
        <p:spPr>
          <a:xfrm>
            <a:off x="571680" y="4143240"/>
            <a:ext cx="4101840" cy="235764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17"/>
          <p:cNvSpPr/>
          <p:nvPr/>
        </p:nvSpPr>
        <p:spPr>
          <a:xfrm>
            <a:off x="298440" y="3571920"/>
            <a:ext cx="821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liwość cieniowania wewnątrz figur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(atrybut wierzchołkó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285920"/>
            <a:ext cx="8786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e układy wsp. kolorów: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Y(K), HSB, YPbPr, CIE xyY, CIE LUV, CIE L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teka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lormaps.cpp/.h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ejrzeć kod!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18"/>
          <p:cNvSpPr/>
          <p:nvPr/>
        </p:nvSpPr>
        <p:spPr>
          <a:xfrm>
            <a:off x="440280" y="3000240"/>
            <a:ext cx="785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GB  –  dobre dla monitorów, TV (emisja światła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odpowiada fizjologii 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Y(K) = 1 – RGB  – drukarki (absorpcja światł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a 6"/>
          <p:cNvGrpSpPr/>
          <p:nvPr/>
        </p:nvGrpSpPr>
        <p:grpSpPr>
          <a:xfrm>
            <a:off x="714240" y="4643280"/>
            <a:ext cx="3838680" cy="1828800"/>
            <a:chOff x="714240" y="4643280"/>
            <a:chExt cx="3838680" cy="1828800"/>
          </a:xfrm>
        </p:grpSpPr>
        <p:pic>
          <p:nvPicPr>
            <p:cNvPr id="121" name="Obraz 11" descr="192px-AdditiveColor_svg.png"/>
            <p:cNvPicPr/>
            <p:nvPr/>
          </p:nvPicPr>
          <p:blipFill>
            <a:blip r:embed="rId1"/>
            <a:stretch/>
          </p:blipFill>
          <p:spPr>
            <a:xfrm>
              <a:off x="714240" y="46432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Obraz 12" descr="CMY.bmp"/>
            <p:cNvPicPr/>
            <p:nvPr/>
          </p:nvPicPr>
          <p:blipFill>
            <a:blip r:embed="rId2"/>
            <a:stretch/>
          </p:blipFill>
          <p:spPr>
            <a:xfrm>
              <a:off x="2714400" y="4643280"/>
              <a:ext cx="183852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13840" y="142884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SB (HSV, HSL) 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e, saturation, brightness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alu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lightness, lumin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dziej intuicyjne, używane w interakcji z człowiek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upa 13"/>
          <p:cNvGrpSpPr/>
          <p:nvPr/>
        </p:nvGrpSpPr>
        <p:grpSpPr>
          <a:xfrm>
            <a:off x="357120" y="3143160"/>
            <a:ext cx="8553600" cy="3353040"/>
            <a:chOff x="357120" y="3143160"/>
            <a:chExt cx="8553600" cy="3353040"/>
          </a:xfrm>
        </p:grpSpPr>
        <p:pic>
          <p:nvPicPr>
            <p:cNvPr id="126" name="Obraz 7" descr="Okno dialogowe HSB.bmp"/>
            <p:cNvPicPr/>
            <p:nvPr/>
          </p:nvPicPr>
          <p:blipFill>
            <a:blip r:embed="rId1"/>
            <a:stretch/>
          </p:blipFill>
          <p:spPr>
            <a:xfrm>
              <a:off x="4500720" y="3214440"/>
              <a:ext cx="4410000" cy="319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Obraz 12" descr="RGB2HSV.bmp"/>
            <p:cNvPicPr/>
            <p:nvPr/>
          </p:nvPicPr>
          <p:blipFill>
            <a:blip r:embed="rId2"/>
            <a:stretch/>
          </p:blipFill>
          <p:spPr>
            <a:xfrm>
              <a:off x="357120" y="3143160"/>
              <a:ext cx="3942720" cy="335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Obraz 14" descr="HSV_cone.jpg"/>
          <p:cNvPicPr/>
          <p:nvPr/>
        </p:nvPicPr>
        <p:blipFill>
          <a:blip r:embed="rId3"/>
          <a:stretch/>
        </p:blipFill>
        <p:spPr>
          <a:xfrm>
            <a:off x="1643040" y="3143160"/>
            <a:ext cx="5707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yka i biologia kolo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owe RGB + A (atrybut figury), alternatywa HS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50 nm, </a:t>
            </a:r>
            <a:r>
              <a:rPr b="0" lang="pl-PL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530 nm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50 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upa 13"/>
          <p:cNvGrpSpPr/>
          <p:nvPr/>
        </p:nvGrpSpPr>
        <p:grpSpPr>
          <a:xfrm>
            <a:off x="357120" y="2643120"/>
            <a:ext cx="8501040" cy="3929040"/>
            <a:chOff x="357120" y="2643120"/>
            <a:chExt cx="8501040" cy="3929040"/>
          </a:xfrm>
        </p:grpSpPr>
        <p:grpSp>
          <p:nvGrpSpPr>
            <p:cNvPr id="132" name="Grupa 6"/>
            <p:cNvGrpSpPr/>
            <p:nvPr/>
          </p:nvGrpSpPr>
          <p:grpSpPr>
            <a:xfrm>
              <a:off x="357120" y="3786120"/>
              <a:ext cx="4214880" cy="2786040"/>
              <a:chOff x="357120" y="3786120"/>
              <a:chExt cx="4214880" cy="2786040"/>
            </a:xfrm>
          </p:grpSpPr>
          <p:sp>
            <p:nvSpPr>
              <p:cNvPr id="133" name="Prostokąt 5"/>
              <p:cNvSpPr/>
              <p:nvPr/>
            </p:nvSpPr>
            <p:spPr>
              <a:xfrm>
                <a:off x="357120" y="3786120"/>
                <a:ext cx="4214880" cy="2786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Obraz 4" descr="cz-oka-wykres1a.gif"/>
              <p:cNvPicPr/>
              <p:nvPr/>
            </p:nvPicPr>
            <p:blipFill>
              <a:blip r:embed="rId1"/>
              <a:stretch/>
            </p:blipFill>
            <p:spPr>
              <a:xfrm>
                <a:off x="571320" y="3907080"/>
                <a:ext cx="3810240" cy="252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Grupa 11"/>
            <p:cNvGrpSpPr/>
            <p:nvPr/>
          </p:nvGrpSpPr>
          <p:grpSpPr>
            <a:xfrm>
              <a:off x="4643280" y="3786120"/>
              <a:ext cx="4214880" cy="2786040"/>
              <a:chOff x="4643280" y="3786120"/>
              <a:chExt cx="4214880" cy="2786040"/>
            </a:xfrm>
          </p:grpSpPr>
          <p:sp>
            <p:nvSpPr>
              <p:cNvPr id="136" name="Prostokąt 8"/>
              <p:cNvSpPr/>
              <p:nvPr/>
            </p:nvSpPr>
            <p:spPr>
              <a:xfrm>
                <a:off x="4643280" y="3786120"/>
                <a:ext cx="4214880" cy="2786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Obraz 10" descr="cz-oka-wykres2a.gif"/>
              <p:cNvPicPr/>
              <p:nvPr/>
            </p:nvPicPr>
            <p:blipFill>
              <a:blip r:embed="rId2"/>
              <a:stretch/>
            </p:blipFill>
            <p:spPr>
              <a:xfrm>
                <a:off x="4857480" y="3907080"/>
                <a:ext cx="3810240" cy="2527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8" name="Obraz 11" descr="widmo.bmp"/>
            <p:cNvPicPr/>
            <p:nvPr/>
          </p:nvPicPr>
          <p:blipFill>
            <a:blip r:embed="rId3"/>
            <a:stretch/>
          </p:blipFill>
          <p:spPr>
            <a:xfrm>
              <a:off x="1071360" y="2643120"/>
              <a:ext cx="30718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raz 12" descr="widmo.bmp"/>
            <p:cNvPicPr/>
            <p:nvPr/>
          </p:nvPicPr>
          <p:blipFill>
            <a:blip r:embed="rId4"/>
            <a:stretch/>
          </p:blipFill>
          <p:spPr>
            <a:xfrm>
              <a:off x="5286240" y="2643120"/>
              <a:ext cx="3071880" cy="97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yczny model oświetlenia – na efekt końcowy (tj. kolor piksela) wpływają „własności emisyjne”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źródła światł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„własności absorpcyjne”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ateriału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tóry jest oświetlany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własności ewentualnych ciał półprzezroczyst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(cieniowani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3"/>
          <p:cNvSpPr/>
          <p:nvPr/>
        </p:nvSpPr>
        <p:spPr>
          <a:xfrm>
            <a:off x="285840" y="37861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bez źródła i kierunku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– rozświetla jednorodnie całą scenę, także wewnątrz figur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– nie daje cieni na obiekcie (nie ma złudzenia 3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4"/>
          <p:cNvSpPr/>
          <p:nvPr/>
        </p:nvSpPr>
        <p:spPr>
          <a:xfrm>
            <a:off x="285840" y="378612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posiada źródło, ale jest jednorodne 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e wszystkich kierunk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nie: Jasność proporcjonal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o kosinusa kąta padania (normal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raz 7" descr="rozproszenie.bmp"/>
          <p:cNvPicPr/>
          <p:nvPr/>
        </p:nvPicPr>
        <p:blipFill>
          <a:blip r:embed="rId1"/>
          <a:stretch/>
        </p:blipFill>
        <p:spPr>
          <a:xfrm>
            <a:off x="6143760" y="5286240"/>
            <a:ext cx="2705040" cy="1409760"/>
          </a:xfrm>
          <a:prstGeom prst="rect">
            <a:avLst/>
          </a:prstGeom>
          <a:ln w="0">
            <a:noFill/>
          </a:ln>
        </p:spPr>
      </p:pic>
      <p:sp>
        <p:nvSpPr>
          <p:cNvPr id="145" name="pole tekstowe 9"/>
          <p:cNvSpPr/>
          <p:nvPr/>
        </p:nvSpPr>
        <p:spPr>
          <a:xfrm>
            <a:off x="285840" y="378612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błysk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źródło i kieru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ktor, efekt „zajączka” – rozbłysku na gładkich p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2"/>
          <p:cNvGrpSpPr/>
          <p:nvPr/>
        </p:nvGrpSpPr>
        <p:grpSpPr>
          <a:xfrm>
            <a:off x="6000840" y="3571920"/>
            <a:ext cx="2896920" cy="1471680"/>
            <a:chOff x="6000840" y="3571920"/>
            <a:chExt cx="2896920" cy="1471680"/>
          </a:xfrm>
        </p:grpSpPr>
        <p:pic>
          <p:nvPicPr>
            <p:cNvPr id="147" name="Obraz 10" descr="rozblysk_szescian.bmp"/>
            <p:cNvPicPr/>
            <p:nvPr/>
          </p:nvPicPr>
          <p:blipFill>
            <a:blip r:embed="rId2"/>
            <a:stretch/>
          </p:blipFill>
          <p:spPr>
            <a:xfrm>
              <a:off x="7572600" y="3571920"/>
              <a:ext cx="1325160" cy="14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Obraz 11" descr="Specular_highlight.jpg"/>
            <p:cNvPicPr/>
            <p:nvPr/>
          </p:nvPicPr>
          <p:blipFill>
            <a:blip r:embed="rId3"/>
            <a:stretch/>
          </p:blipFill>
          <p:spPr>
            <a:xfrm>
              <a:off x="6000840" y="3571920"/>
              <a:ext cx="1471680" cy="147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Obraz 13" descr="Phong_ambient.bmp"/>
          <p:cNvPicPr/>
          <p:nvPr/>
        </p:nvPicPr>
        <p:blipFill>
          <a:blip r:embed="rId4"/>
          <a:stretch/>
        </p:blipFill>
        <p:spPr>
          <a:xfrm>
            <a:off x="428760" y="1500120"/>
            <a:ext cx="1485720" cy="1362240"/>
          </a:xfrm>
          <a:prstGeom prst="rect">
            <a:avLst/>
          </a:prstGeom>
          <a:ln w="0">
            <a:noFill/>
          </a:ln>
        </p:spPr>
      </p:pic>
      <p:pic>
        <p:nvPicPr>
          <p:cNvPr id="150" name="Obraz 14" descr="Phong_diffuse.bmp"/>
          <p:cNvPicPr/>
          <p:nvPr/>
        </p:nvPicPr>
        <p:blipFill>
          <a:blip r:embed="rId5"/>
          <a:stretch/>
        </p:blipFill>
        <p:spPr>
          <a:xfrm>
            <a:off x="2571840" y="1500120"/>
            <a:ext cx="148572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Obraz 15" descr="Phong_specular.bmp"/>
          <p:cNvPicPr/>
          <p:nvPr/>
        </p:nvPicPr>
        <p:blipFill>
          <a:blip r:embed="rId6"/>
          <a:stretch/>
        </p:blipFill>
        <p:spPr>
          <a:xfrm>
            <a:off x="4643280" y="1500120"/>
            <a:ext cx="1495440" cy="1362240"/>
          </a:xfrm>
          <a:prstGeom prst="rect">
            <a:avLst/>
          </a:prstGeom>
          <a:ln w="0">
            <a:noFill/>
          </a:ln>
        </p:spPr>
      </p:pic>
      <p:grpSp>
        <p:nvGrpSpPr>
          <p:cNvPr id="152" name="Grupa 22"/>
          <p:cNvGrpSpPr/>
          <p:nvPr/>
        </p:nvGrpSpPr>
        <p:grpSpPr>
          <a:xfrm>
            <a:off x="2009160" y="1500120"/>
            <a:ext cx="6449040" cy="1381320"/>
            <a:chOff x="2009160" y="1500120"/>
            <a:chExt cx="6449040" cy="1381320"/>
          </a:xfrm>
        </p:grpSpPr>
        <p:pic>
          <p:nvPicPr>
            <p:cNvPr id="153" name="Obraz 17" descr="Phong_complete.bmp"/>
            <p:cNvPicPr/>
            <p:nvPr/>
          </p:nvPicPr>
          <p:blipFill>
            <a:blip r:embed="rId7"/>
            <a:stretch/>
          </p:blipFill>
          <p:spPr>
            <a:xfrm>
              <a:off x="7000920" y="1500120"/>
              <a:ext cx="1457280" cy="13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ole tekstowe 18"/>
            <p:cNvSpPr/>
            <p:nvPr/>
          </p:nvSpPr>
          <p:spPr>
            <a:xfrm>
              <a:off x="200916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ole tekstowe 19"/>
            <p:cNvSpPr/>
            <p:nvPr/>
          </p:nvSpPr>
          <p:spPr>
            <a:xfrm>
              <a:off x="408096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ole tekstowe 20"/>
            <p:cNvSpPr/>
            <p:nvPr/>
          </p:nvSpPr>
          <p:spPr>
            <a:xfrm>
              <a:off x="629028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ole tekstowe 23"/>
          <p:cNvSpPr/>
          <p:nvPr/>
        </p:nvSpPr>
        <p:spPr>
          <a:xfrm>
            <a:off x="285840" y="3786120"/>
            <a:ext cx="885816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światło słoneczn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w białym pomieszczen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mleczna żarówka, świ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błysk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reflektor, odbicie od lu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a każdego typu parametry materiału ustalane są osob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oświetlenia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upa 22"/>
          <p:cNvGrpSpPr/>
          <p:nvPr/>
        </p:nvGrpSpPr>
        <p:grpSpPr>
          <a:xfrm>
            <a:off x="428760" y="1500120"/>
            <a:ext cx="8029440" cy="1381320"/>
            <a:chOff x="428760" y="1500120"/>
            <a:chExt cx="8029440" cy="1381320"/>
          </a:xfrm>
        </p:grpSpPr>
        <p:pic>
          <p:nvPicPr>
            <p:cNvPr id="160" name="Obraz 14" descr="Phong_ambient.bmp"/>
            <p:cNvPicPr/>
            <p:nvPr/>
          </p:nvPicPr>
          <p:blipFill>
            <a:blip r:embed="rId1"/>
            <a:stretch/>
          </p:blipFill>
          <p:spPr>
            <a:xfrm>
              <a:off x="428760" y="1500120"/>
              <a:ext cx="1485720" cy="13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Obraz 15" descr="Phong_diffuse.bmp"/>
            <p:cNvPicPr/>
            <p:nvPr/>
          </p:nvPicPr>
          <p:blipFill>
            <a:blip r:embed="rId2"/>
            <a:stretch/>
          </p:blipFill>
          <p:spPr>
            <a:xfrm>
              <a:off x="2571840" y="1500120"/>
              <a:ext cx="1485720" cy="13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raz 16" descr="Phong_specular.bmp"/>
            <p:cNvPicPr/>
            <p:nvPr/>
          </p:nvPicPr>
          <p:blipFill>
            <a:blip r:embed="rId3"/>
            <a:stretch/>
          </p:blipFill>
          <p:spPr>
            <a:xfrm>
              <a:off x="4643640" y="1500120"/>
              <a:ext cx="1495440" cy="13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upa 17"/>
            <p:cNvGrpSpPr/>
            <p:nvPr/>
          </p:nvGrpSpPr>
          <p:grpSpPr>
            <a:xfrm>
              <a:off x="2009160" y="1500120"/>
              <a:ext cx="6449040" cy="1381320"/>
              <a:chOff x="2009160" y="1500120"/>
              <a:chExt cx="6449040" cy="1381320"/>
            </a:xfrm>
          </p:grpSpPr>
          <p:pic>
            <p:nvPicPr>
              <p:cNvPr id="164" name="Obraz 18" descr="Phong_complete.bmp"/>
              <p:cNvPicPr/>
              <p:nvPr/>
            </p:nvPicPr>
            <p:blipFill>
              <a:blip r:embed="rId4"/>
              <a:stretch/>
            </p:blipFill>
            <p:spPr>
              <a:xfrm>
                <a:off x="7000920" y="1500120"/>
                <a:ext cx="1457280" cy="13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pole tekstowe 19"/>
              <p:cNvSpPr/>
              <p:nvPr/>
            </p:nvSpPr>
            <p:spPr>
              <a:xfrm>
                <a:off x="200916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pole tekstowe 20"/>
              <p:cNvSpPr/>
              <p:nvPr/>
            </p:nvSpPr>
            <p:spPr>
              <a:xfrm>
                <a:off x="408096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pole tekstowe 21"/>
              <p:cNvSpPr/>
              <p:nvPr/>
            </p:nvSpPr>
            <p:spPr>
              <a:xfrm>
                <a:off x="629028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ole tekstowe 23"/>
          <p:cNvSpPr/>
          <p:nvPr/>
        </p:nvSpPr>
        <p:spPr>
          <a:xfrm>
            <a:off x="456120" y="3286080"/>
            <a:ext cx="839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racowany w 1975 przez Phong Bui-Tuo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jedynie zgrubnym przybliżeniem praw opty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kłada trzy niezależne komponenty odbitego światł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rozproszone – model Lamberta (17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cieniowania Phonga (coś innego niż model ośw.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= interpolacja normalnych (uśrednianie normalny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Lamb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13840" y="128556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 światła rozproszo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sność przedmiotu (natężenie światła) równa jest 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ono jakąś funkcją natężenia światła padającego n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ierzchnię i kąta odbicia 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= padan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19"/>
          <p:cNvSpPr/>
          <p:nvPr/>
        </p:nvSpPr>
        <p:spPr>
          <a:xfrm>
            <a:off x="251640" y="3214800"/>
            <a:ext cx="8076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zakłada, że natężenie światła odbitego 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rcjonalne do „efektywnej powierzchni” widzianej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z obserwatora A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0"/>
          <p:cNvSpPr/>
          <p:nvPr/>
        </p:nvSpPr>
        <p:spPr>
          <a:xfrm>
            <a:off x="1017360" y="4714920"/>
            <a:ext cx="212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 </a:t>
            </a:r>
            <a:r>
              <a:rPr b="0" i="1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i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(</a:t>
            </a:r>
            <a:r>
              <a:rPr b="0" i="1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i="1" lang="pl-PL" sz="1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1"/>
          <p:cNvSpPr/>
          <p:nvPr/>
        </p:nvSpPr>
        <p:spPr>
          <a:xfrm>
            <a:off x="216720" y="5357880"/>
            <a:ext cx="464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czanie 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jest szybk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24"/>
          <p:cNvGrpSpPr/>
          <p:nvPr/>
        </p:nvGrpSpPr>
        <p:grpSpPr>
          <a:xfrm>
            <a:off x="223200" y="4071960"/>
            <a:ext cx="8706600" cy="2699280"/>
            <a:chOff x="223200" y="4071960"/>
            <a:chExt cx="8706600" cy="2699280"/>
          </a:xfrm>
        </p:grpSpPr>
        <p:pic>
          <p:nvPicPr>
            <p:cNvPr id="175" name="Obraz 18" descr="Schemat Lambert.jpg"/>
            <p:cNvPicPr/>
            <p:nvPr/>
          </p:nvPicPr>
          <p:blipFill>
            <a:blip r:embed="rId1"/>
            <a:stretch/>
          </p:blipFill>
          <p:spPr>
            <a:xfrm>
              <a:off x="5143680" y="4429080"/>
              <a:ext cx="378612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pole tekstowe 12"/>
            <p:cNvSpPr/>
            <p:nvPr/>
          </p:nvSpPr>
          <p:spPr>
            <a:xfrm>
              <a:off x="223200" y="6402960"/>
              <a:ext cx="468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 – wektor normalny, L –  promień św. odbite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pole tekstowe 22"/>
            <p:cNvSpPr/>
            <p:nvPr/>
          </p:nvSpPr>
          <p:spPr>
            <a:xfrm>
              <a:off x="6147360" y="4071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pole tekstowe 23"/>
            <p:cNvSpPr/>
            <p:nvPr/>
          </p:nvSpPr>
          <p:spPr>
            <a:xfrm>
              <a:off x="7076160" y="40719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3840" y="128592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 światła 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(„zajączek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y przez Phonga – nie ma podstaw fiz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ole tekstowe 20"/>
          <p:cNvSpPr/>
          <p:nvPr/>
        </p:nvSpPr>
        <p:spPr>
          <a:xfrm>
            <a:off x="794880" y="2428920"/>
            <a:ext cx="22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s </a:t>
            </a:r>
            <a:r>
              <a:rPr b="0" i="1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i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</a:t>
            </a:r>
            <a:r>
              <a:rPr b="0" lang="pl-PL" sz="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8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n</a:t>
            </a:r>
            <a:r>
              <a:rPr b="0" i="1" lang="pl-PL" sz="12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pl-PL" sz="1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1"/>
          <p:cNvSpPr/>
          <p:nvPr/>
        </p:nvSpPr>
        <p:spPr>
          <a:xfrm>
            <a:off x="232920" y="3143160"/>
            <a:ext cx="40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etr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ontroluj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ostrość” zależności od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ąta pod którym oglądamy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gment powierzchni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22" descr="Phong_kule.jpg"/>
          <p:cNvPicPr/>
          <p:nvPr/>
        </p:nvPicPr>
        <p:blipFill>
          <a:blip r:embed="rId1"/>
          <a:stretch/>
        </p:blipFill>
        <p:spPr>
          <a:xfrm>
            <a:off x="4643280" y="2714760"/>
            <a:ext cx="4286520" cy="285732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23"/>
          <p:cNvSpPr/>
          <p:nvPr/>
        </p:nvSpPr>
        <p:spPr>
          <a:xfrm>
            <a:off x="5376600" y="5715000"/>
            <a:ext cx="35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, 5, 10, 20, 50,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24"/>
          <p:cNvSpPr/>
          <p:nvPr/>
        </p:nvSpPr>
        <p:spPr>
          <a:xfrm>
            <a:off x="520920" y="5357880"/>
            <a:ext cx="31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~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_SHIN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upa 31"/>
          <p:cNvGrpSpPr/>
          <p:nvPr/>
        </p:nvGrpSpPr>
        <p:grpSpPr>
          <a:xfrm>
            <a:off x="4643280" y="2357280"/>
            <a:ext cx="4286520" cy="4275000"/>
            <a:chOff x="4643280" y="2357280"/>
            <a:chExt cx="4286520" cy="4275000"/>
          </a:xfrm>
        </p:grpSpPr>
        <p:sp>
          <p:nvSpPr>
            <p:cNvPr id="187" name="pole tekstowe 26"/>
            <p:cNvSpPr/>
            <p:nvPr/>
          </p:nvSpPr>
          <p:spPr>
            <a:xfrm>
              <a:off x="4653720" y="5715360"/>
              <a:ext cx="284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 – wektor normalny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 –  promień św. odbitego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 – kierunek do obserwat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Obraz 25" descr="Schemat Pong.jpg"/>
            <p:cNvPicPr/>
            <p:nvPr/>
          </p:nvPicPr>
          <p:blipFill>
            <a:blip r:embed="rId2"/>
            <a:stretch/>
          </p:blipFill>
          <p:spPr>
            <a:xfrm>
              <a:off x="4643280" y="2714400"/>
              <a:ext cx="4286520" cy="29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ole tekstowe 27"/>
            <p:cNvSpPr/>
            <p:nvPr/>
          </p:nvSpPr>
          <p:spPr>
            <a:xfrm>
              <a:off x="6004080" y="2357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ole tekstowe 28"/>
            <p:cNvSpPr/>
            <p:nvPr/>
          </p:nvSpPr>
          <p:spPr>
            <a:xfrm>
              <a:off x="7147440" y="2357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pole tekstowe 29"/>
            <p:cNvSpPr/>
            <p:nvPr/>
          </p:nvSpPr>
          <p:spPr>
            <a:xfrm>
              <a:off x="8362080" y="3286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31"/>
          <p:cNvSpPr/>
          <p:nvPr/>
        </p:nvSpPr>
        <p:spPr>
          <a:xfrm>
            <a:off x="2013480" y="500076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                     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                     =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oświetlenia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3840" y="1285560"/>
            <a:ext cx="8929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ójkomponentowy model oświetl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upa 19"/>
          <p:cNvGrpSpPr/>
          <p:nvPr/>
        </p:nvGrpSpPr>
        <p:grpSpPr>
          <a:xfrm>
            <a:off x="571680" y="2714760"/>
            <a:ext cx="7815240" cy="1380960"/>
            <a:chOff x="571680" y="2714760"/>
            <a:chExt cx="7815240" cy="1380960"/>
          </a:xfrm>
        </p:grpSpPr>
        <p:pic>
          <p:nvPicPr>
            <p:cNvPr id="196" name="Obraz 8" descr="Phong_ambient.bmp"/>
            <p:cNvPicPr/>
            <p:nvPr/>
          </p:nvPicPr>
          <p:blipFill>
            <a:blip r:embed="rId1"/>
            <a:stretch/>
          </p:blipFill>
          <p:spPr>
            <a:xfrm>
              <a:off x="571680" y="2719440"/>
              <a:ext cx="148572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Obraz 9" descr="Phong_diffuse.bmp"/>
            <p:cNvPicPr/>
            <p:nvPr/>
          </p:nvPicPr>
          <p:blipFill>
            <a:blip r:embed="rId2"/>
            <a:stretch/>
          </p:blipFill>
          <p:spPr>
            <a:xfrm>
              <a:off x="2643120" y="2714760"/>
              <a:ext cx="14857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Obraz 10" descr="Phong_specular.bmp"/>
            <p:cNvPicPr/>
            <p:nvPr/>
          </p:nvPicPr>
          <p:blipFill>
            <a:blip r:embed="rId3"/>
            <a:stretch/>
          </p:blipFill>
          <p:spPr>
            <a:xfrm>
              <a:off x="4786560" y="2719440"/>
              <a:ext cx="1495440" cy="136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upa 18"/>
            <p:cNvGrpSpPr/>
            <p:nvPr/>
          </p:nvGrpSpPr>
          <p:grpSpPr>
            <a:xfrm>
              <a:off x="2080800" y="2714760"/>
              <a:ext cx="6306120" cy="1380960"/>
              <a:chOff x="2080800" y="2714760"/>
              <a:chExt cx="6306120" cy="1380960"/>
            </a:xfrm>
          </p:grpSpPr>
          <p:pic>
            <p:nvPicPr>
              <p:cNvPr id="200" name="Obraz 14" descr="Phong_complete.bmp"/>
              <p:cNvPicPr/>
              <p:nvPr/>
            </p:nvPicPr>
            <p:blipFill>
              <a:blip r:embed="rId4"/>
              <a:stretch/>
            </p:blipFill>
            <p:spPr>
              <a:xfrm>
                <a:off x="6929640" y="2714760"/>
                <a:ext cx="1457280" cy="13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pole tekstowe 15"/>
              <p:cNvSpPr/>
              <p:nvPr/>
            </p:nvSpPr>
            <p:spPr>
              <a:xfrm>
                <a:off x="208080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pole tekstowe 16"/>
              <p:cNvSpPr/>
              <p:nvPr/>
            </p:nvSpPr>
            <p:spPr>
              <a:xfrm>
                <a:off x="422388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pole tekstowe 17"/>
              <p:cNvSpPr/>
              <p:nvPr/>
            </p:nvSpPr>
            <p:spPr>
              <a:xfrm>
                <a:off x="636192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ole tekstowe 18"/>
          <p:cNvSpPr/>
          <p:nvPr/>
        </p:nvSpPr>
        <p:spPr>
          <a:xfrm>
            <a:off x="1368360" y="4286160"/>
            <a:ext cx="40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19"/>
          <p:cNvSpPr/>
          <p:nvPr/>
        </p:nvSpPr>
        <p:spPr>
          <a:xfrm>
            <a:off x="3440160" y="4286160"/>
            <a:ext cx="40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20"/>
          <p:cNvSpPr/>
          <p:nvPr/>
        </p:nvSpPr>
        <p:spPr>
          <a:xfrm>
            <a:off x="5581080" y="4286160"/>
            <a:ext cx="38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upa 24"/>
          <p:cNvGrpSpPr/>
          <p:nvPr/>
        </p:nvGrpSpPr>
        <p:grpSpPr>
          <a:xfrm>
            <a:off x="939600" y="4286160"/>
            <a:ext cx="4703040" cy="579600"/>
            <a:chOff x="939600" y="4286160"/>
            <a:chExt cx="4703040" cy="579600"/>
          </a:xfrm>
        </p:grpSpPr>
        <p:sp>
          <p:nvSpPr>
            <p:cNvPr id="208" name="pole tekstowe 21"/>
            <p:cNvSpPr/>
            <p:nvPr/>
          </p:nvSpPr>
          <p:spPr>
            <a:xfrm>
              <a:off x="939600" y="42861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pole tekstowe 22"/>
            <p:cNvSpPr/>
            <p:nvPr/>
          </p:nvSpPr>
          <p:spPr>
            <a:xfrm>
              <a:off x="3011400" y="42861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pole tekstowe 23"/>
            <p:cNvSpPr/>
            <p:nvPr/>
          </p:nvSpPr>
          <p:spPr>
            <a:xfrm>
              <a:off x="5224320" y="4286160"/>
              <a:ext cx="41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upa 32"/>
          <p:cNvGrpSpPr/>
          <p:nvPr/>
        </p:nvGrpSpPr>
        <p:grpSpPr>
          <a:xfrm>
            <a:off x="1010880" y="5000760"/>
            <a:ext cx="4060080" cy="579600"/>
            <a:chOff x="1010880" y="5000760"/>
            <a:chExt cx="4060080" cy="579600"/>
          </a:xfrm>
        </p:grpSpPr>
        <p:sp>
          <p:nvSpPr>
            <p:cNvPr id="212" name="pole tekstowe 26"/>
            <p:cNvSpPr/>
            <p:nvPr/>
          </p:nvSpPr>
          <p:spPr>
            <a:xfrm>
              <a:off x="1010880" y="50007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pole tekstowe 27"/>
            <p:cNvSpPr/>
            <p:nvPr/>
          </p:nvSpPr>
          <p:spPr>
            <a:xfrm>
              <a:off x="2511000" y="50007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pole tekstowe 28"/>
            <p:cNvSpPr/>
            <p:nvPr/>
          </p:nvSpPr>
          <p:spPr>
            <a:xfrm>
              <a:off x="4652640" y="5000760"/>
              <a:ext cx="41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upa 30"/>
          <p:cNvGrpSpPr/>
          <p:nvPr/>
        </p:nvGrpSpPr>
        <p:grpSpPr>
          <a:xfrm>
            <a:off x="1368000" y="5000760"/>
            <a:ext cx="5243400" cy="579600"/>
            <a:chOff x="1368000" y="5000760"/>
            <a:chExt cx="5243400" cy="579600"/>
          </a:xfrm>
        </p:grpSpPr>
        <p:sp>
          <p:nvSpPr>
            <p:cNvPr id="216" name="pole tekstowe 12"/>
            <p:cNvSpPr/>
            <p:nvPr/>
          </p:nvSpPr>
          <p:spPr>
            <a:xfrm>
              <a:off x="2914920" y="5000760"/>
              <a:ext cx="1430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s(</a:t>
              </a:r>
              <a:r>
                <a:rPr b="0" i="1" lang="pl-PL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pole tekstowe 13"/>
            <p:cNvSpPr/>
            <p:nvPr/>
          </p:nvSpPr>
          <p:spPr>
            <a:xfrm>
              <a:off x="4996440" y="5000760"/>
              <a:ext cx="1614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s</a:t>
              </a:r>
              <a:r>
                <a:rPr b="0" lang="pl-PL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8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i="1" lang="pl-PL" sz="12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ole tekstowe 29"/>
            <p:cNvSpPr/>
            <p:nvPr/>
          </p:nvSpPr>
          <p:spPr>
            <a:xfrm>
              <a:off x="1368000" y="5000760"/>
              <a:ext cx="40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ole tekstowe 33"/>
          <p:cNvSpPr/>
          <p:nvPr/>
        </p:nvSpPr>
        <p:spPr>
          <a:xfrm>
            <a:off x="64296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34"/>
          <p:cNvSpPr/>
          <p:nvPr/>
        </p:nvSpPr>
        <p:spPr>
          <a:xfrm>
            <a:off x="278604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ole tekstowe 35"/>
          <p:cNvSpPr/>
          <p:nvPr/>
        </p:nvSpPr>
        <p:spPr>
          <a:xfrm>
            <a:off x="478620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ole tekstowe 36"/>
          <p:cNvSpPr/>
          <p:nvPr/>
        </p:nvSpPr>
        <p:spPr>
          <a:xfrm>
            <a:off x="369360" y="5789520"/>
            <a:ext cx="85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rzeczywistości (tj. w OpenGL) takie obliczeni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wadzone są osobno dla każdej składowej koloru (RG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13840" y="128556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płaskie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jasność określana jest wzorem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ga dla całej płaskiej powierzchni trójkąta w model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przypadku powierzchni płaskich efekt jest „kancias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ole tekstowe 9"/>
          <p:cNvSpPr/>
          <p:nvPr/>
        </p:nvSpPr>
        <p:spPr>
          <a:xfrm>
            <a:off x="243360" y="6143760"/>
            <a:ext cx="62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kolorować powierzchnie zaokrągl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raz 10" descr="Shading_flat.bmp"/>
          <p:cNvPicPr/>
          <p:nvPr/>
        </p:nvPicPr>
        <p:blipFill>
          <a:blip r:embed="rId1"/>
          <a:stretch/>
        </p:blipFill>
        <p:spPr>
          <a:xfrm>
            <a:off x="357120" y="3286080"/>
            <a:ext cx="2571840" cy="2584440"/>
          </a:xfrm>
          <a:prstGeom prst="rect">
            <a:avLst/>
          </a:prstGeom>
          <a:ln w="0">
            <a:noFill/>
          </a:ln>
        </p:spPr>
      </p:pic>
      <p:sp>
        <p:nvSpPr>
          <p:cNvPr id="227" name="pole tekstowe 11"/>
          <p:cNvSpPr/>
          <p:nvPr/>
        </p:nvSpPr>
        <p:spPr>
          <a:xfrm>
            <a:off x="4705560" y="3357720"/>
            <a:ext cx="376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datkowo niekorzyst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t  pasm Ma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raz 14" descr="pasma Macha.jpg"/>
          <p:cNvPicPr/>
          <p:nvPr/>
        </p:nvPicPr>
        <p:blipFill>
          <a:blip r:embed="rId2"/>
          <a:stretch/>
        </p:blipFill>
        <p:spPr>
          <a:xfrm>
            <a:off x="5857920" y="4429080"/>
            <a:ext cx="25621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gadnienia grafiki 3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3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zagadnien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budowanie modeli obiektów (ze świata realnego) za pomocą przestrzennych figur geometrycznych (trójkątów, wielokątów).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ść trójkątów – jakość modelowania (realizm) – wymagany sprzę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nimacj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ruch obiektów – zmiana położenia w poszczególnych kadrach (renderowanych statycznych scena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ender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techniczne aspekty przygotowania sceny (alg. rys. linii, bufor głębii, antyaliasing itp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Phong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bliczenia koloru dla każde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nktu trójkąta z wektorem normalnym wyznaczonym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podstawie interpolacji na bazie trzech wektorów normalnych przypisanych do każdego wierzchołka trójką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Obraz 9" descr="Shading_Phong.bmp"/>
          <p:cNvPicPr/>
          <p:nvPr/>
        </p:nvPicPr>
        <p:blipFill>
          <a:blip r:embed="rId1"/>
          <a:stretch/>
        </p:blipFill>
        <p:spPr>
          <a:xfrm>
            <a:off x="3071880" y="3286080"/>
            <a:ext cx="2714400" cy="2602080"/>
          </a:xfrm>
          <a:prstGeom prst="rect">
            <a:avLst/>
          </a:prstGeom>
          <a:ln w="0">
            <a:noFill/>
          </a:ln>
        </p:spPr>
      </p:pic>
      <p:pic>
        <p:nvPicPr>
          <p:cNvPr id="232" name="Obraz 10" descr="Shading_flat.bmp"/>
          <p:cNvPicPr/>
          <p:nvPr/>
        </p:nvPicPr>
        <p:blipFill>
          <a:blip r:embed="rId2"/>
          <a:stretch/>
        </p:blipFill>
        <p:spPr>
          <a:xfrm>
            <a:off x="357120" y="3286080"/>
            <a:ext cx="2571840" cy="2584440"/>
          </a:xfrm>
          <a:prstGeom prst="rect">
            <a:avLst/>
          </a:prstGeom>
          <a:ln w="0">
            <a:noFill/>
          </a:ln>
        </p:spPr>
      </p:pic>
      <p:sp>
        <p:nvSpPr>
          <p:cNvPr id="233" name="pole tekstowe 11"/>
          <p:cNvSpPr/>
          <p:nvPr/>
        </p:nvSpPr>
        <p:spPr>
          <a:xfrm>
            <a:off x="1076760" y="600084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łas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ole tekstowe 12"/>
          <p:cNvSpPr/>
          <p:nvPr/>
        </p:nvSpPr>
        <p:spPr>
          <a:xfrm>
            <a:off x="3934440" y="600084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Obraz 9" descr="06 Cieniowanie.bmp"/>
          <p:cNvPicPr/>
          <p:nvPr/>
        </p:nvPicPr>
        <p:blipFill>
          <a:blip r:embed="rId1"/>
          <a:stretch/>
        </p:blipFill>
        <p:spPr>
          <a:xfrm>
            <a:off x="285840" y="3500280"/>
            <a:ext cx="5143320" cy="29559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niowanie Gourauda – kolor punktu na prymitywie uzyskiwany jest przez interpolację składowych koloru jego wierzchołków (tylko te wyznaczane są np. wzorem Phong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niej wymagający numerycznie, ale też mniej realist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Obraz 5" descr="Gouraud_flat.jpg"/>
          <p:cNvPicPr/>
          <p:nvPr/>
        </p:nvPicPr>
        <p:blipFill>
          <a:blip r:embed="rId2"/>
          <a:stretch/>
        </p:blipFill>
        <p:spPr>
          <a:xfrm>
            <a:off x="4429080" y="3500280"/>
            <a:ext cx="1965240" cy="1571760"/>
          </a:xfrm>
          <a:prstGeom prst="rect">
            <a:avLst/>
          </a:prstGeom>
          <a:ln w="0">
            <a:noFill/>
          </a:ln>
        </p:spPr>
      </p:pic>
      <p:pic>
        <p:nvPicPr>
          <p:cNvPr id="239" name="Obraz 6" descr="Gouraud_lisse.jpg"/>
          <p:cNvPicPr/>
          <p:nvPr/>
        </p:nvPicPr>
        <p:blipFill>
          <a:blip r:embed="rId3"/>
          <a:stretch/>
        </p:blipFill>
        <p:spPr>
          <a:xfrm>
            <a:off x="6572160" y="3500280"/>
            <a:ext cx="1965240" cy="15717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upa 11"/>
          <p:cNvGrpSpPr/>
          <p:nvPr/>
        </p:nvGrpSpPr>
        <p:grpSpPr>
          <a:xfrm>
            <a:off x="243000" y="3500280"/>
            <a:ext cx="5796720" cy="2235600"/>
            <a:chOff x="243000" y="3500280"/>
            <a:chExt cx="5796720" cy="2235600"/>
          </a:xfrm>
        </p:grpSpPr>
        <p:pic>
          <p:nvPicPr>
            <p:cNvPr id="241" name="Obraz 3" descr="Gouraud_sgouraud1.jpg"/>
            <p:cNvPicPr/>
            <p:nvPr/>
          </p:nvPicPr>
          <p:blipFill>
            <a:blip r:embed="rId4"/>
            <a:stretch/>
          </p:blipFill>
          <p:spPr>
            <a:xfrm>
              <a:off x="285480" y="3500280"/>
              <a:ext cx="1905120" cy="15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Obraz 4" descr="Gouraud_sgouraud2.jpg"/>
            <p:cNvPicPr/>
            <p:nvPr/>
          </p:nvPicPr>
          <p:blipFill>
            <a:blip r:embed="rId5"/>
            <a:stretch/>
          </p:blipFill>
          <p:spPr>
            <a:xfrm>
              <a:off x="2214360" y="3500280"/>
              <a:ext cx="204120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pole tekstowe 8"/>
            <p:cNvSpPr/>
            <p:nvPr/>
          </p:nvSpPr>
          <p:spPr>
            <a:xfrm>
              <a:off x="243000" y="5215320"/>
              <a:ext cx="57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del to żona Henri Gourauda, Sylvi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ole tekstowe 12"/>
          <p:cNvSpPr/>
          <p:nvPr/>
        </p:nvSpPr>
        <p:spPr>
          <a:xfrm>
            <a:off x="232200" y="5715000"/>
            <a:ext cx="665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da: wyraźnie widać granicę użytych figur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ymaga gęstszej sieci niż met. Phon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ole tekstowe 10"/>
          <p:cNvSpPr/>
          <p:nvPr/>
        </p:nvSpPr>
        <p:spPr>
          <a:xfrm>
            <a:off x="324720" y="3857760"/>
            <a:ext cx="8167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czenia rekuren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żywane w metodzie śledzenia promieni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ay tracin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oli wchodzi do silników graficznych działając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w czasie rzeczywist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ycznie generuje także cienie obiektów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rzucane na inne powierzch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128556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glob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m Kajiya, 1986 (Microsof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 obliczaniu składowych światła odbitego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względnia nie tylko światło pochodząc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 źródeł, ale również odbite od innych p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Obraz 6" descr="Jim_Kajiya.jpg"/>
          <p:cNvPicPr/>
          <p:nvPr/>
        </p:nvPicPr>
        <p:blipFill>
          <a:blip r:embed="rId1"/>
          <a:stretch/>
        </p:blipFill>
        <p:spPr>
          <a:xfrm>
            <a:off x="7000920" y="1357200"/>
            <a:ext cx="1915920" cy="2657520"/>
          </a:xfrm>
          <a:prstGeom prst="rect">
            <a:avLst/>
          </a:prstGeom>
          <a:ln w="0">
            <a:noFill/>
          </a:ln>
        </p:spPr>
      </p:pic>
      <p:grpSp>
        <p:nvGrpSpPr>
          <p:cNvPr id="249" name="Grupa 9"/>
          <p:cNvGrpSpPr/>
          <p:nvPr/>
        </p:nvGrpSpPr>
        <p:grpSpPr>
          <a:xfrm>
            <a:off x="214200" y="3929040"/>
            <a:ext cx="8929800" cy="2469960"/>
            <a:chOff x="214200" y="3929040"/>
            <a:chExt cx="8929800" cy="2469960"/>
          </a:xfrm>
        </p:grpSpPr>
        <p:sp>
          <p:nvSpPr>
            <p:cNvPr id="250" name="Prostokąt 7"/>
            <p:cNvSpPr/>
            <p:nvPr/>
          </p:nvSpPr>
          <p:spPr>
            <a:xfrm>
              <a:off x="214200" y="5088240"/>
              <a:ext cx="89298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sumaryczn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(składowe koloru) w punkcie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z punktu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= 0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eśl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i="1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‘ są przesłonięte, =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/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r>
                <a:rPr b="0" i="1" lang="pl-PL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 przeciwnym wypadku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dl. międz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unktami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emitowana przez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 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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światła odbitego z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zez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wszystkie punkty na wszystkich powierzchniach odbijających światł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2"/>
                <p:cNvSpPr txBox="1"/>
                <p:nvPr/>
              </p:nvSpPr>
              <p:spPr>
                <a:xfrm>
                  <a:off x="285480" y="3929040"/>
                  <a:ext cx="6429600" cy="102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)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ε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r>
                                <m:t xml:space="preserve">ρ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d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kładu użycia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y tra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Obraz 11" descr="ray_tracing_3_of_them.png"/>
          <p:cNvPicPr/>
          <p:nvPr/>
        </p:nvPicPr>
        <p:blipFill>
          <a:blip r:embed="rId1"/>
          <a:stretch/>
        </p:blipFill>
        <p:spPr>
          <a:xfrm>
            <a:off x="1571760" y="1428840"/>
            <a:ext cx="6143400" cy="4606920"/>
          </a:xfrm>
          <a:prstGeom prst="rect">
            <a:avLst/>
          </a:prstGeom>
          <a:ln w="0">
            <a:noFill/>
          </a:ln>
        </p:spPr>
      </p:pic>
      <p:pic>
        <p:nvPicPr>
          <p:cNvPr id="254" name="Obraz 14" descr="ray_tracing_frame.jpg"/>
          <p:cNvPicPr/>
          <p:nvPr/>
        </p:nvPicPr>
        <p:blipFill>
          <a:blip r:embed="rId2"/>
          <a:stretch/>
        </p:blipFill>
        <p:spPr>
          <a:xfrm>
            <a:off x="2143080" y="1428840"/>
            <a:ext cx="4643640" cy="4643280"/>
          </a:xfrm>
          <a:prstGeom prst="rect">
            <a:avLst/>
          </a:prstGeom>
          <a:ln w="0">
            <a:noFill/>
          </a:ln>
        </p:spPr>
      </p:pic>
      <p:pic>
        <p:nvPicPr>
          <p:cNvPr id="255" name="Symbol zastępczy zawartości 3" descr="Glasses_800.png"/>
          <p:cNvPicPr/>
          <p:nvPr/>
        </p:nvPicPr>
        <p:blipFill>
          <a:blip r:embed="rId3"/>
          <a:stretch/>
        </p:blipFill>
        <p:spPr>
          <a:xfrm>
            <a:off x="1643040" y="1357200"/>
            <a:ext cx="6000840" cy="4500720"/>
          </a:xfrm>
          <a:prstGeom prst="rect">
            <a:avLst/>
          </a:prstGeom>
          <a:ln w="0">
            <a:noFill/>
          </a:ln>
        </p:spPr>
      </p:pic>
      <p:pic>
        <p:nvPicPr>
          <p:cNvPr id="256" name="Obraz 7" descr="alchlab-big.jpg"/>
          <p:cNvPicPr/>
          <p:nvPr/>
        </p:nvPicPr>
        <p:blipFill>
          <a:blip r:embed="rId4"/>
          <a:stretch/>
        </p:blipFill>
        <p:spPr>
          <a:xfrm>
            <a:off x="1643040" y="1357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57" name="Obraz 10" descr="chado.jpg"/>
          <p:cNvPicPr/>
          <p:nvPr/>
        </p:nvPicPr>
        <p:blipFill>
          <a:blip r:embed="rId5"/>
          <a:stretch/>
        </p:blipFill>
        <p:spPr>
          <a:xfrm>
            <a:off x="1643040" y="1357200"/>
            <a:ext cx="6094440" cy="4572000"/>
          </a:xfrm>
          <a:prstGeom prst="rect">
            <a:avLst/>
          </a:prstGeom>
          <a:ln w="0">
            <a:noFill/>
          </a:ln>
        </p:spPr>
      </p:pic>
      <p:sp>
        <p:nvSpPr>
          <p:cNvPr id="258" name="pole tekstowe 8"/>
          <p:cNvSpPr/>
          <p:nvPr/>
        </p:nvSpPr>
        <p:spPr>
          <a:xfrm>
            <a:off x="3288240" y="628668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hof.povray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57120" y="1285920"/>
            <a:ext cx="8786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um przypadku: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izualizacj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kcji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izyk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bioru punktów material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kład słoneczny, lina, symulacja lot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czytywanie obiektów z pli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tencil Buffe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ustro, cienie rzucane przez obie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xelShader, VertexSh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kład model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Symbol zastępczy zawartości 3" descr="Glasses_800.png"/>
          <p:cNvPicPr/>
          <p:nvPr/>
        </p:nvPicPr>
        <p:blipFill>
          <a:blip r:embed="rId1"/>
          <a:stretch/>
        </p:blipFill>
        <p:spPr>
          <a:xfrm>
            <a:off x="1571760" y="185724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4"/>
          <p:cNvSpPr/>
          <p:nvPr/>
        </p:nvSpPr>
        <p:spPr>
          <a:xfrm>
            <a:off x="2169000" y="1071720"/>
            <a:ext cx="49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niestety to nie OpenGL lub DirectX, a </a:t>
            </a:r>
            <a:r>
              <a:rPr b="0" i="1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ay tracing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wierzchoł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rte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wierzchołek figury 2D lub 3D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element siatki rozpiętej w 3D, która jest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bazą renderowanej sce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wierzchołkiem mogą być związane m.in.: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olor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Color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u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ormaln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Normal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współrzędna tekstury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exCoord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565200" y="5929200"/>
            <a:ext cx="82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e OpenGL: </a:t>
            </a:r>
            <a:r>
              <a:rPr b="0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{234}{sfid}[v]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LType współrzęd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imitiw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figury zbudowane z vertexów, dwustron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obiekt modelowany jest z tysięcy trójkątów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Begi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 prymitiwu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półrzę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br>
              <a:rPr sz="2800"/>
            </a:b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półrzę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En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upa 7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62" name="Obraz 4" descr="vertexy0.bmp"/>
            <p:cNvPicPr/>
            <p:nvPr/>
          </p:nvPicPr>
          <p:blipFill>
            <a:blip r:embed="rId1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pole tekstowe 6"/>
            <p:cNvSpPr/>
            <p:nvPr/>
          </p:nvSpPr>
          <p:spPr>
            <a:xfrm>
              <a:off x="6081480" y="58582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biór wierzchołkó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primiti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upa 9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66" name="Obraz 5" descr="vertexy1_points.bmp"/>
            <p:cNvPicPr/>
            <p:nvPr/>
          </p:nvPicPr>
          <p:blipFill>
            <a:blip r:embed="rId2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pole tekstowe 8"/>
            <p:cNvSpPr/>
            <p:nvPr/>
          </p:nvSpPr>
          <p:spPr>
            <a:xfrm>
              <a:off x="6437880" y="58582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upa 14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sp>
          <p:nvSpPr>
            <p:cNvPr id="69" name="pole tekstowe 12"/>
            <p:cNvSpPr/>
            <p:nvPr/>
          </p:nvSpPr>
          <p:spPr>
            <a:xfrm>
              <a:off x="6436440" y="585828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raz 13" descr="vertexy2_lines.bmp"/>
            <p:cNvPicPr/>
            <p:nvPr/>
          </p:nvPicPr>
          <p:blipFill>
            <a:blip r:embed="rId3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upa 23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2" name="Obraz 15" descr="vertexy3_line_strip.bmp"/>
            <p:cNvPicPr/>
            <p:nvPr/>
          </p:nvPicPr>
          <p:blipFill>
            <a:blip r:embed="rId4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pole tekstowe 22"/>
            <p:cNvSpPr/>
            <p:nvPr/>
          </p:nvSpPr>
          <p:spPr>
            <a:xfrm>
              <a:off x="6224760" y="585828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upa 26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5" name="Obraz 16" descr="vertexy4_line_loop.bmp"/>
            <p:cNvPicPr/>
            <p:nvPr/>
          </p:nvPicPr>
          <p:blipFill>
            <a:blip r:embed="rId5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pole tekstowe 24"/>
            <p:cNvSpPr/>
            <p:nvPr/>
          </p:nvSpPr>
          <p:spPr>
            <a:xfrm>
              <a:off x="6225120" y="585828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_LO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upa 28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8" name="Obraz 17" descr="vertexy5_triangles.bmp"/>
            <p:cNvPicPr/>
            <p:nvPr/>
          </p:nvPicPr>
          <p:blipFill>
            <a:blip r:embed="rId6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ole tekstowe 27"/>
            <p:cNvSpPr/>
            <p:nvPr/>
          </p:nvSpPr>
          <p:spPr>
            <a:xfrm>
              <a:off x="6161040" y="585828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upa 31"/>
          <p:cNvGrpSpPr/>
          <p:nvPr/>
        </p:nvGrpSpPr>
        <p:grpSpPr>
          <a:xfrm>
            <a:off x="5870880" y="3786120"/>
            <a:ext cx="2478960" cy="2440440"/>
            <a:chOff x="5870880" y="3786120"/>
            <a:chExt cx="2478960" cy="2440440"/>
          </a:xfrm>
        </p:grpSpPr>
        <p:pic>
          <p:nvPicPr>
            <p:cNvPr id="81" name="Obraz 18" descr="vertexy6_triangle_strip.bmp"/>
            <p:cNvPicPr/>
            <p:nvPr/>
          </p:nvPicPr>
          <p:blipFill>
            <a:blip r:embed="rId7"/>
            <a:stretch/>
          </p:blipFill>
          <p:spPr>
            <a:xfrm>
              <a:off x="6072120" y="3786120"/>
              <a:ext cx="204732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pole tekstowe 29"/>
            <p:cNvSpPr/>
            <p:nvPr/>
          </p:nvSpPr>
          <p:spPr>
            <a:xfrm>
              <a:off x="5870880" y="585828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upa 33"/>
          <p:cNvGrpSpPr/>
          <p:nvPr/>
        </p:nvGrpSpPr>
        <p:grpSpPr>
          <a:xfrm>
            <a:off x="5934240" y="3786120"/>
            <a:ext cx="2312640" cy="2440440"/>
            <a:chOff x="5934240" y="3786120"/>
            <a:chExt cx="2312640" cy="2440440"/>
          </a:xfrm>
        </p:grpSpPr>
        <p:pic>
          <p:nvPicPr>
            <p:cNvPr id="84" name="Obraz 19" descr="vertexy7_triangle_fan.bmp"/>
            <p:cNvPicPr/>
            <p:nvPr/>
          </p:nvPicPr>
          <p:blipFill>
            <a:blip r:embed="rId8"/>
            <a:stretch/>
          </p:blipFill>
          <p:spPr>
            <a:xfrm>
              <a:off x="6066000" y="3786120"/>
              <a:ext cx="204876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pole tekstowe 32"/>
            <p:cNvSpPr/>
            <p:nvPr/>
          </p:nvSpPr>
          <p:spPr>
            <a:xfrm>
              <a:off x="5934240" y="5858280"/>
              <a:ext cx="231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_F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a 35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87" name="Obraz 20" descr="vertexy8_quads.bmp"/>
            <p:cNvPicPr/>
            <p:nvPr/>
          </p:nvPicPr>
          <p:blipFill>
            <a:blip r:embed="rId9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pole tekstowe 34"/>
            <p:cNvSpPr/>
            <p:nvPr/>
          </p:nvSpPr>
          <p:spPr>
            <a:xfrm>
              <a:off x="6403680" y="585828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QU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upa 36"/>
          <p:cNvGrpSpPr/>
          <p:nvPr/>
        </p:nvGrpSpPr>
        <p:grpSpPr>
          <a:xfrm>
            <a:off x="6072120" y="3786120"/>
            <a:ext cx="2091240" cy="2440440"/>
            <a:chOff x="6072120" y="3786120"/>
            <a:chExt cx="2091240" cy="2440440"/>
          </a:xfrm>
        </p:grpSpPr>
        <p:pic>
          <p:nvPicPr>
            <p:cNvPr id="90" name="Obraz 21" descr="vertexy9_quad_strip.bmp"/>
            <p:cNvPicPr/>
            <p:nvPr/>
          </p:nvPicPr>
          <p:blipFill>
            <a:blip r:embed="rId10"/>
            <a:stretch/>
          </p:blipFill>
          <p:spPr>
            <a:xfrm>
              <a:off x="6072120" y="3786120"/>
              <a:ext cx="204768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pole tekstowe 25"/>
            <p:cNvSpPr/>
            <p:nvPr/>
          </p:nvSpPr>
          <p:spPr>
            <a:xfrm>
              <a:off x="6168960" y="585828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QUAD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39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93" name="Obraz 37" descr="vertexyA_polygon.bmp"/>
            <p:cNvPicPr/>
            <p:nvPr/>
          </p:nvPicPr>
          <p:blipFill>
            <a:blip r:embed="rId11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ole tekstowe 38"/>
            <p:cNvSpPr/>
            <p:nvPr/>
          </p:nvSpPr>
          <p:spPr>
            <a:xfrm>
              <a:off x="6285600" y="58582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POLY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ole tekstowe 40"/>
          <p:cNvSpPr/>
          <p:nvPr/>
        </p:nvSpPr>
        <p:spPr>
          <a:xfrm>
            <a:off x="4576680" y="528624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pukł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 przecię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41"/>
          <p:cNvSpPr/>
          <p:nvPr/>
        </p:nvSpPr>
        <p:spPr>
          <a:xfrm>
            <a:off x="814680" y="6286680"/>
            <a:ext cx="80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żywanie trójkątów (i pasów): najbardziej wydajne numerycznie, zmniejsza artef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pot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ok (ang.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ipeli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ciąg przekształceń macierz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(sprzętowo zrównoleglone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ane wejściow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wierzchołki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 3D 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ranslacje, obroty (m. model-widok),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obcięci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frustum (ograniczenie ilości wierzchołków)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zut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macierz rzutowania + mieszanie kolorów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ynik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piksele obrazu 2D (współrzędne ekran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kreślane we współrzędnych sceny 3D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ransl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obrót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Scal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pochyl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– dowolna macierz 4x4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muszą być ustalone </a:t>
            </a: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ze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rysowaniem wierzchołka, np.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5.0f, 0.0f, 1.0f, 0.0f); //kąt, kierunek 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…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są wykonywane „od końc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42884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spółrzędne jednoro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genous coordinat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e w 1946 przez E. Maxwella (rzutowa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1965 L. Roberts użył ich do zunifikowania zapisu wszystkich transformacji: translacji, obrotów, skalowanie i pochyl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is punktów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ymiarowej przestrzeni za pomocą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 współrzę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cinanie we współrzędnych jednorodnych może odbywać się w sześcianie zamiast w ściętym ostrosłupie (znacznie efektywniejsze numerycz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428480"/>
            <a:ext cx="8501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spółrzędnych kartezjańskich (2D)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i translacja mogą być zapis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857160" y="2357280"/>
                <a:ext cx="6910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pole tekstowe 5"/>
          <p:cNvSpPr/>
          <p:nvPr/>
        </p:nvSpPr>
        <p:spPr>
          <a:xfrm>
            <a:off x="571680" y="5715000"/>
            <a:ext cx="90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korzystaniu ze współrzędnych jednorodnych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 osobnej prezentacj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upa 10"/>
          <p:cNvGrpSpPr/>
          <p:nvPr/>
        </p:nvGrpSpPr>
        <p:grpSpPr>
          <a:xfrm>
            <a:off x="352080" y="3643200"/>
            <a:ext cx="6886800" cy="1785960"/>
            <a:chOff x="352080" y="3643200"/>
            <a:chExt cx="6886800" cy="1785960"/>
          </a:xfrm>
        </p:grpSpPr>
        <p:sp>
          <p:nvSpPr>
            <p:cNvPr id="110" name="pole tekstowe 6"/>
            <p:cNvSpPr/>
            <p:nvPr/>
          </p:nvSpPr>
          <p:spPr>
            <a:xfrm>
              <a:off x="352080" y="3643200"/>
              <a:ext cx="53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e współrzędnych jednorodnych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Object 6"/>
                <p:cNvSpPr txBox="1"/>
                <p:nvPr/>
              </p:nvSpPr>
              <p:spPr>
                <a:xfrm>
                  <a:off x="833400" y="4143240"/>
                  <a:ext cx="640548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H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38:26Z</dcterms:created>
  <dc:creator>Jacek Matulewski</dc:creator>
  <dc:description/>
  <dc:language>en-US</dc:language>
  <cp:lastModifiedBy>Jacek Matulewski</cp:lastModifiedBy>
  <dcterms:modified xsi:type="dcterms:W3CDTF">2009-05-25T14:28:49Z</dcterms:modified>
  <cp:revision>116</cp:revision>
  <dc:subject/>
  <dc:title>Grafika 3D</dc:title>
</cp:coreProperties>
</file>